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30518"/>
        <c:axId val="73266043"/>
      </c:barChart>
      <c:catAx>
        <c:axId val="37230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66043"/>
        <c:crosses val="autoZero"/>
        <c:auto val="1"/>
        <c:lblAlgn val="ctr"/>
        <c:lblOffset val="100"/>
        <c:noMultiLvlLbl val="0"/>
      </c:catAx>
      <c:valAx>
        <c:axId val="73266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30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432-E9F1-41D0-8C5D-EBB42474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46C-A65B-43C7-BF37-CFB7C67D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10C-E81F-4AAF-82D2-5FC0D4DE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313-6174-47BE-953F-A18869EB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A6E-F0C9-4B17-B594-ED5AB849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688-B2E8-46EE-85B0-E18F5699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C83-A242-42A3-BAB6-F3A06CBE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0CF-7F2B-4912-91D1-E35B174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1DA-B65E-4852-B984-2C147A6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1A0-6E98-4052-8E7B-A0BF76FA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344-AF7B-46D7-A0C1-3E04724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4EB-048D-43B6-8EBC-52EFA82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A09FC-4C5D-494D-9684-76AC46EC9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