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25710"/>
        <c:axId val="89751234"/>
      </c:barChart>
      <c:catAx>
        <c:axId val="77925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51234"/>
        <c:crosses val="autoZero"/>
        <c:auto val="1"/>
        <c:lblAlgn val="ctr"/>
        <c:lblOffset val="100"/>
        <c:noMultiLvlLbl val="0"/>
      </c:catAx>
      <c:valAx>
        <c:axId val="89751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25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67E-40A3-4EDC-84C7-11223C76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DE1-ED4D-47AA-8691-21B73014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991-23E2-4A93-A6F6-F0FCE5CD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FE2-D441-453D-8F0D-D136AF3D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67E-433F-46C5-88DB-4155EDDD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6C3-F1AD-44F5-80DF-51487933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DD2-48AB-4816-934F-E46D4CE0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06A-1F64-4FE8-8CFD-B060030E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7DA-0186-4A1E-86B6-59CFB0AF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687-CE16-45FF-BADF-181B6618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0FB-C4B0-4C49-9C34-E5E60526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337-82A0-417F-A7F3-1DFB2001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576E1-BF30-470F-A628-99831D91BB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