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25332"/>
        <c:axId val="264148"/>
      </c:barChart>
      <c:catAx>
        <c:axId val="18525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148"/>
        <c:crosses val="autoZero"/>
        <c:auto val="1"/>
        <c:lblAlgn val="ctr"/>
        <c:lblOffset val="100"/>
        <c:noMultiLvlLbl val="0"/>
      </c:catAx>
      <c:valAx>
        <c:axId val="264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25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AF3-8D26-43B2-9357-7BD957C6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EDE-8756-4635-B2DF-4F6B19AB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374-F1AC-41A5-93C8-4E708943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C39-EF7E-42B4-98E7-5984E5D8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72A-29AA-4313-B8B1-48AAE135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41F-7D1B-40A3-8708-06AD5342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1EC-8E5F-4B99-8B79-A9A858A6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140-804B-4DDE-98D8-42F0D663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425-766E-4AE7-B6EB-E8A53694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40F-D4D2-4495-B0D2-5E367755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217-D065-49D9-BC74-58C60584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FD8-7250-4468-B68B-4FAA3119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CC239-005B-4E5B-92AD-16A047222B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