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9564"/>
        <c:axId val="74916489"/>
      </c:barChart>
      <c:catAx>
        <c:axId val="5679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16489"/>
        <c:crosses val="autoZero"/>
        <c:auto val="1"/>
        <c:lblAlgn val="ctr"/>
        <c:lblOffset val="100"/>
        <c:noMultiLvlLbl val="0"/>
      </c:catAx>
      <c:valAx>
        <c:axId val="74916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9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A9E-B239-4679-8028-4E83258D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853-1163-4BA9-B2FF-6C75278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17A-3672-4C84-809E-D65DEDDB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890-EB00-443E-9F13-1D20611B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B48-CAA0-4DD2-906D-BE25C3BE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ECE-872E-486A-84AB-16E53D6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85B-5BC6-4D35-9C72-1CAA1271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1F9-88DA-49FA-975A-F6244C9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6AD-A028-4339-BC7A-B27310C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613-4A09-4707-833D-0BBBFC1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9B2-B293-4FEE-95F3-1A32506D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3B1-D0FF-48A6-A627-3D5DF20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47078-E04A-4A93-BEEC-E2520A591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