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99901"/>
        <c:axId val="99139615"/>
      </c:barChart>
      <c:catAx>
        <c:axId val="85999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39615"/>
        <c:crosses val="autoZero"/>
        <c:auto val="1"/>
        <c:lblAlgn val="ctr"/>
        <c:lblOffset val="100"/>
        <c:noMultiLvlLbl val="0"/>
      </c:catAx>
      <c:valAx>
        <c:axId val="991396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9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CD0D-EF3B-4D5C-AF82-0BCBEED9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51DE-41E7-472A-BCE4-80667947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2AA-DC0E-424C-9BB7-FFF10DEB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F2FE-9B6E-41B1-9A8B-C45CB2A1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8D1-1F3A-4C26-B9EA-5EDF372D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E8A-5441-463F-9784-DE0D70A1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1097-779A-4D17-8105-4169A322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C72C-76A6-4D40-B10B-4EE7F998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10B4-A33A-420D-A97A-36114287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238-4470-44E5-914B-796449C4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6E73-3B8A-4744-A7E4-3D6EE546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3EC-EB18-4D4B-BDD2-28FD8CB1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2640E-EA1A-4E09-84FF-604C0CDBF1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