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92883"/>
        <c:axId val="77704329"/>
      </c:barChart>
      <c:catAx>
        <c:axId val="554928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04329"/>
        <c:crosses val="autoZero"/>
        <c:auto val="1"/>
        <c:lblAlgn val="ctr"/>
        <c:lblOffset val="100"/>
        <c:noMultiLvlLbl val="0"/>
      </c:catAx>
      <c:valAx>
        <c:axId val="777043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928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0C2D-8E7F-4097-B7F0-05FFAC13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5498-4BB6-439F-9836-DD5A8948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5C4C-BCFE-4C27-A104-E3B47E0F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FE60-20CC-4EF8-85D6-5434515D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FF0A-A82F-4FF6-8D83-76307CB7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75DD-BF78-4070-A00B-44D8A5B7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234-F480-4B94-BD47-2DE0BF33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18EF-99CA-4D5F-9A27-2B946E2B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3FF2-74EC-4637-9E20-C925EAB9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6806-3D21-4B94-B993-9ADF020D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D395-6866-48E5-B2CB-F1D21DFF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5AE8-7C40-4F00-9679-78247C44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A7585-CD93-424C-8BE2-BED216CE95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