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42642"/>
        <c:axId val="66211773"/>
      </c:barChart>
      <c:catAx>
        <c:axId val="10742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11773"/>
        <c:crosses val="autoZero"/>
        <c:auto val="1"/>
        <c:lblAlgn val="ctr"/>
        <c:lblOffset val="100"/>
        <c:noMultiLvlLbl val="0"/>
      </c:catAx>
      <c:valAx>
        <c:axId val="66211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42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47A-7BBE-41BE-B18E-6F5FB6C4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BAF-99A2-4737-B8C2-6996F8C8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853-B9BB-49C9-93E9-CC269175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3B2-57E8-4E34-98B3-74E535F3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9F7-9858-4F80-A2D5-5CEF5089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A20-CCEF-4170-BFD0-D8E55CF3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609-42C8-48BA-9949-C38A64BC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F0B-F0FE-44A7-B218-099F83B9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8D9-B18E-44B6-817F-E3148C59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7AA-A008-4693-9048-F51E8DB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ECB-5449-483E-BE0E-4EB668D3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342-39B6-45FE-9A45-114BCFC8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8774C-06AF-4A80-8C0C-8FC8DF2BC3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